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4D7A-78B2-4AED-B339-4E0FE80D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EDB-B518-419C-8D03-FDE91458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D60-E480-499A-8CB5-2ED6042B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611-3C86-43F8-8F16-3EA753B2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E8EF-4835-41A9-A74F-1C971338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95D1-E116-432C-BAF9-B350C9A9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C154-14DA-49A8-B604-AE93D833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B095-D217-4DF1-B587-5E416269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33CE-3CD2-468F-BED2-32A17E1E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5F58-28F5-48A7-AE8E-EDD291A5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34CD-06DA-43D3-920C-84109D01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9BD-E297-49AA-8293-BC36EED6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5179-6461-4C8A-95F8-2B306EA3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301D-6748-4751-9663-5B09EFB9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7BF9-5CD6-4F16-BF61-EDEB5833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037E-828A-4BB2-81C7-6D135D52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EB25-F13D-4B11-B477-7037502A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C9A-5D36-4FBB-A956-0FF6F71D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4B9-6D96-4D78-A2AB-E08D7399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602D-BECA-4A9B-8537-566C0EE7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8F6F-AB91-4006-8979-362823A6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1A9E-B926-4F7A-81B0-8EF6D1CB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3EA-986F-49F1-A113-F5B1A724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9FF8-628F-4014-9063-3E0E0796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2110-7251-4A77-A4F8-E8730946A50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B853-CD47-4179-B73D-ADC752DDE01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Presentations</a:t>
            </a:r>
            <a:br>
              <a:rPr sz="5100"/>
            </a:b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Making a start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roduc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Your name and position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title/subject of your presentation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purpose of the presentation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length of time you will take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main parts or points you will cover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y visual aids you will use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en the audience may ask questions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reference to the audience: a human touch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5494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*External presentation – customers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125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*Internal presentation – colleagues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06920" y="1125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*Internal presentation – bosses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06920" y="1557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*External presentation – suppliers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esentation Checkli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686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Have you considered the audience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Is your presentation well prepared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Is there a clear structure (beginning, middle, end)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Do you link the parts together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Is the content relevant and interestin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Have you considered the timing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Are you speaking clearl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Are you speaking at the right speed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Do you use appropriate language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Do you use your body to emphasise meaning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Do you maintain eye contact with the audience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Do you appear confident and positive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Are the visual aids clear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Do they support your message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Do you use the equipment professionally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9:10:42Z</dcterms:created>
  <dc:creator>qq</dc:creator>
  <dc:description/>
  <dc:language>en-US</dc:language>
  <cp:lastModifiedBy>Liz</cp:lastModifiedBy>
  <dcterms:modified xsi:type="dcterms:W3CDTF">2010-04-02T08:51:05Z</dcterms:modified>
  <cp:revision>13</cp:revision>
  <dc:subject/>
  <dc:title>Presentations</dc:title>
</cp:coreProperties>
</file>